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06158-8192-4C25-9FDB-285E2957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4656F-DDAB-4870-9C0E-0991AB83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AD8F0-A7D8-4967-8B36-C52257BD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AE253-8C09-42F4-8A01-44711904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B155-9B3A-4E6C-8A56-2CAF58AF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4A2D-7DF7-4F5E-9DA3-66100A43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17DD-6A29-4AE5-9EA8-362F980C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7663-951F-4D12-B2B2-C26A205C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B04C-3662-4848-B032-18CF05E3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674E-7A2B-4F7B-9AF7-A84EEFCB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7A3F-203A-4C06-B142-86594C52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6B361-1782-4B70-A6C7-0ACB1FDA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4E78-FCCC-49BD-9D15-7110DC6A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8FCB-8D99-4184-A3B5-3134D8B4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C71E-5289-45CF-9F31-5B0B7F2E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622F-2EEA-4216-8B16-1AC3E147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FE6D-28DF-4336-B443-F43FE11C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BD646-8A32-4DC8-AE61-D4D050EA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D03A5-67A2-4FB5-8BDC-AD24EB71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DA896-0D15-4F5E-B0DA-BC4E3FE4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B3F62-5B3B-482B-ACA4-BA96B2BA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7362B-2F10-4AB1-BD4A-6A498B95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6CB49-6646-460C-9483-6855F7AF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94C74-6C29-41FD-9A63-B4DD1D81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FCF2-D608-4A3C-822C-4D8A6F66FA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ED2A-5D47-40A9-98A2-A6667E7F0B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he Articles of Confederation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rticles of Confederation needs to be chang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3:33:29Z</dcterms:created>
  <dc:creator>eric.musser</dc:creator>
  <dc:description/>
  <dc:language>en-US</dc:language>
  <cp:lastModifiedBy>eric.musser</cp:lastModifiedBy>
  <dcterms:modified xsi:type="dcterms:W3CDTF">2008-04-25T13:34:33Z</dcterms:modified>
  <cp:revision>2</cp:revision>
  <dc:subject/>
  <dc:title>The Articles of confederation </dc:title>
</cp:coreProperties>
</file>